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AC9B-F219-42BB-849F-BD574C606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9315-C110-4561-AE7E-3B0F6E19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9198-0A12-4AD0-BBDB-6831C5759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7DD9-A0D5-4692-A4A6-3AEBA9C1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7EFB-58BF-4EC6-9CC1-92896317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16F8-496A-4908-9829-0E5A5A1B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5BA-FCC6-434B-8F51-2FF1D905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621-E647-45C0-85D9-301139A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D74-87E0-4D28-8694-956CFFE8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1A5-191D-4551-A18F-691C5713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A4B-3CA5-4D95-A9E0-3CF57749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E99-58F5-44D4-AF41-8CF85C86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C61-8408-4368-B8D9-34CF59BC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3ED-5A28-46BF-9839-B418E3BC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859-4CD8-4A39-A850-24F1E8EC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349-1CCE-4511-9D26-89DA550F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A7D-0D9D-416E-A6AE-B57D50BB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C77-B91F-41C5-ADA5-5F775FD8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774E-C21B-4EA6-BD65-A1F7902B33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813-F953-4BC7-A2D3-0B99CA48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417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333399"/>
                </a:solidFill>
                <a:latin typeface="Arial"/>
              </a:rPr>
              <a:t>Ge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99cc00"/>
                </a:solidFill>
                <a:latin typeface="Arial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9999"/>
                </a:solidFill>
                <a:latin typeface="Arial"/>
              </a:rPr>
              <a:t>How has the cho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3-boys-3girls-school-children-smile-pictures"/>
          <p:cNvPicPr/>
          <p:nvPr/>
        </p:nvPicPr>
        <p:blipFill>
          <a:blip r:embed="rId1"/>
          <a:stretch/>
        </p:blipFill>
        <p:spPr>
          <a:xfrm>
            <a:off x="4821120" y="1557360"/>
            <a:ext cx="3461040" cy="4325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6176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1403280" y="333360"/>
            <a:ext cx="10670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99cc00"/>
                </a:solidFill>
                <a:latin typeface="Arial"/>
              </a:rPr>
              <a:t>In this lesson we are going to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Experience fair and unfai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Discuss how that makes us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Explore some reasons why some girls and boys don’t have the sam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rcRect l="18122" t="0" r="18122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fruits.jpg"/>
          <p:cNvPicPr/>
          <p:nvPr/>
        </p:nvPicPr>
        <p:blipFill>
          <a:blip r:embed="rId2"/>
          <a:srcRect l="18126" t="0" r="18126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rcRect l="23888" t="0" r="23888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4" descr="playing soccer.jpg"/>
          <p:cNvPicPr/>
          <p:nvPr/>
        </p:nvPicPr>
        <p:blipFill>
          <a:blip r:embed="rId2"/>
          <a:srcRect l="20114" t="0" r="20114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1" descr="Laptop.jpg"/>
          <p:cNvPicPr/>
          <p:nvPr/>
        </p:nvPicPr>
        <p:blipFill>
          <a:blip r:embed="rId1"/>
          <a:srcRect l="0" t="-12730" r="0" b="-1273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smartphone.jpg"/>
          <p:cNvPicPr/>
          <p:nvPr/>
        </p:nvPicPr>
        <p:blipFill>
          <a:blip r:embed="rId2"/>
          <a:srcRect l="0" t="-12971" r="0" b="-12971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2" descr="kitten.jpg"/>
          <p:cNvPicPr/>
          <p:nvPr/>
        </p:nvPicPr>
        <p:blipFill>
          <a:blip r:embed="rId1"/>
          <a:srcRect l="7561" t="0" r="7561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4" descr="puppy.jpg"/>
          <p:cNvPicPr/>
          <p:nvPr/>
        </p:nvPicPr>
        <p:blipFill>
          <a:blip r:embed="rId2"/>
          <a:srcRect l="4838" t="0" r="4838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Final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2" descr="vacuuming.jpg"/>
          <p:cNvPicPr/>
          <p:nvPr/>
        </p:nvPicPr>
        <p:blipFill>
          <a:blip r:embed="rId1"/>
          <a:srcRect l="0" t="7283" r="0" b="7283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6" descr="faire-devoir.jpg"/>
          <p:cNvPicPr/>
          <p:nvPr/>
        </p:nvPicPr>
        <p:blipFill>
          <a:blip r:embed="rId2"/>
          <a:srcRect l="23340" t="0" r="23340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404640"/>
            <a:ext cx="82170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9cc00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13" descr="CPPR-2009-ZWE-1E13-1.jpg"/>
          <p:cNvPicPr/>
          <p:nvPr/>
        </p:nvPicPr>
        <p:blipFill>
          <a:blip r:embed="rId1"/>
          <a:srcRect l="0" t="-33661" r="0" b="-33661"/>
          <a:stretch/>
        </p:blipFill>
        <p:spPr>
          <a:xfrm>
            <a:off x="358920" y="1413000"/>
            <a:ext cx="3755880" cy="47131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14" descr="201003-BGD-18.jpg"/>
          <p:cNvPicPr/>
          <p:nvPr/>
        </p:nvPicPr>
        <p:blipFill>
          <a:blip r:embed="rId2"/>
          <a:srcRect l="0" t="-33662" r="0" b="-33662"/>
          <a:stretch/>
        </p:blipFill>
        <p:spPr>
          <a:xfrm>
            <a:off x="4321080" y="1413000"/>
            <a:ext cx="3756240" cy="4713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6"/>
          <p:cNvSpPr/>
          <p:nvPr/>
        </p:nvSpPr>
        <p:spPr>
          <a:xfrm>
            <a:off x="468360" y="2997360"/>
            <a:ext cx="638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lth worker immunising a girl in Bulawayo, Zimbabw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Plan International (200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4427640" y="3141720"/>
            <a:ext cx="36734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boy selling food in the streets of Dhaka, Banglades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Plan International (20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Extension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483920"/>
            <a:ext cx="7608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class examines how girls and boys in Ireland are expected to make choices based on their gender and debate the issue or mount a campaign in school to support gender equ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Information and activities on the Millennium Development Goal 2 – To achieve universal primary education http://www.oxfam.org.uk/education/resources/change_the_world_in_eight_steps/files/MDG%20Goal%202%20Poster.pdf  (Poster) http://www.oxfam.org.uk/education/resources/change_the_world_in_eight_steps/files/goal_2.pdf (Lesson pl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Christian Aid Lesson </a:t>
            </a:r>
            <a:r>
              <a:rPr b="1" lang="en-IE" sz="2100" spc="-1" strike="noStrike">
                <a:solidFill>
                  <a:srgbClr val="000000"/>
                </a:solidFill>
                <a:latin typeface="Arial"/>
              </a:rPr>
              <a:t>–“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chool Today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learn.christianaid.org.uk/TeachersResources/primary/primary-assembly-april-2011-education-gender.aspx</a:t>
            </a:r>
            <a:r>
              <a:rPr b="1" lang="en-I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0:14:50Z</dcterms:created>
  <dc:creator> </dc:creator>
  <dc:description/>
  <dc:language>en-US</dc:language>
  <cp:lastModifiedBy>Fionnuala Ward</cp:lastModifiedBy>
  <dcterms:modified xsi:type="dcterms:W3CDTF">2012-09-10T15:54:09Z</dcterms:modified>
  <cp:revision>27</cp:revision>
  <dc:subject/>
  <dc:title>Gender Issue – Lesson 5</dc:title>
</cp:coreProperties>
</file>