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614-D2E0-401B-8F95-1E88219D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21F-3BEC-4AF6-A629-3C29ECD6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6EF-918A-4094-9C77-63333202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59D-2DAB-448D-8514-14B620FE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98A1-97A2-4498-BCD7-570372FB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559-4356-47B8-871B-F04908BA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BDBF-40A5-49BF-9536-6DB8257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E72D-5232-4A41-957B-CE373296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66DF-2934-4F28-84AC-414DEDB0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2EE2-2C0A-4AAE-AB30-3C039C2F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9A26-C892-4EF9-AFB8-1615C7C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A43-AC7F-4A6F-90D2-762B8D28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E5EE-A2BB-42C6-9CA5-8199A0E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C5FD-E43F-450A-8A94-24D4593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488D-64AD-477B-A89E-3C36D69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DF8-30B9-45EF-B3F5-3D1100FD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C0AB-759D-45FB-9681-94CA01F0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5A1D-B662-4715-BE0C-5814E141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35D3-C524-454E-9E86-6D6F833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5B06-4754-4ABE-8C14-B8230BA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5705-8407-4B57-B476-7B76B40A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CE91-11D6-4D02-8E33-743CF04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218-B9A9-4840-A4EE-4A6075ED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7036-1B79-4C21-A5C4-629D696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2C0E-21FE-4881-87F6-715A34F0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11B2-EBB1-4B22-82BF-6DEEA90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05CA-DAA0-4CF8-99F7-E68DD139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F4C0-5EF9-4E95-A387-722EE8A6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D18F-53F1-492E-9EDC-CCACAE6D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52E4-ADB6-456D-89EE-9DE74B18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3AAD-C9E6-498F-B07B-B91A4FB6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0FD96-D2BF-44E9-B568-E429F99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E614-9A29-4470-9762-7E044B9B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B82-EF1D-43C3-B63D-1B5D33B0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8D499-CF70-4A28-91AA-A24649D6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AF10A-CF42-4476-AD16-2AFF2DA4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CF6E-C584-4429-B19F-16A142A8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7E5E-5957-4FD5-9181-1425067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9302-CB12-4A10-A277-354263E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A369-61CF-4D03-8674-BEF8F65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232A-9C82-4AB8-8DEE-37F36A5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902C-DDC9-4A03-B07A-0B670E6C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75BE-6100-4EF1-92F6-8EE62A8F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0BFB-58A8-4445-8350-F17D1E78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AC9-463A-41EB-A4EE-F2BB31B2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CC495-8DA6-41AE-A129-F6E229DE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7F50-FB5B-43B2-B39E-5FB9C6A5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6D69C-4F74-4924-8250-F78AC078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7D184-6623-471D-9CFF-DDC6BA48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B57EF-C8FC-41F6-8491-262CD8D7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55EB5-12BA-4F33-9E11-A8B01D6F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F2895-4DC5-49FB-9AB9-EA66FF57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3ABCC-B560-4D11-AE48-4D21B87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CD06-D470-4AD8-98B5-A382CC7B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16304-4858-4474-B832-C23DA069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EF3-3041-4C45-96C7-2017F6D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F2DF7-F259-4DC0-955C-16C5FA68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080-D58D-418F-84C2-75DC1821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74D-87B6-49A8-AD36-7243533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59F-3F17-40DF-A62B-21D7040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48CC-1487-4036-A3A0-2156B87F4F66}" type="datetime">
              <a:rPr b="0" lang="en-IE" sz="1000" spc="-1" strike="noStrike">
                <a:solidFill>
                  <a:srgbClr val="a7a399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338D-523B-4876-A381-8F11E6CA470B}" type="slidenum">
              <a:rPr b="0" lang="en-I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9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B766-7DD4-45D4-9153-B4DFF3DCBB01}" type="datetime">
              <a:rPr b="0" lang="en-IE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E83D-83A2-4537-97DD-8B2C8EF365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43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424D-7D45-44B5-AC34-58C56C74B421}" type="datetime">
              <a:rPr b="0" lang="en-IE" sz="1000" spc="-1" strike="noStrike">
                <a:solidFill>
                  <a:srgbClr val="a7a399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A7B8-DF8A-4312-910F-0933455EAFF8}" type="slidenum">
              <a:rPr b="0" lang="en-I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6859-0623-409E-8D5F-22D819EFE7D5}" type="datetime">
              <a:rPr b="0" lang="en-IE" sz="1000" spc="-1" strike="noStrike">
                <a:solidFill>
                  <a:srgbClr val="a7a399"/>
                </a:solidFill>
                <a:latin typeface="Verdana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3885-9A91-4320-9FCE-9920B2649CFC}" type="slidenum">
              <a:rPr b="0" lang="en-I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3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37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9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BB7C-F9E1-469A-99FF-6B21518C7AC6}" type="datetime">
              <a:rPr b="0" lang="en-IE" sz="1000" spc="-1" strike="noStrike">
                <a:solidFill>
                  <a:srgbClr val="2f1311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EF5-7586-4981-B6F0-B7C81424B606}" type="slidenum">
              <a:rPr b="0" lang="en-GB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700" spc="-1" strike="noStrike">
                <a:solidFill>
                  <a:srgbClr val="f7d47d"/>
                </a:solidFill>
                <a:latin typeface="Arial"/>
              </a:rPr>
              <a:t>Love is……</a:t>
            </a:r>
            <a:endParaRPr b="0" lang="en-US" sz="107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1520" y="4984920"/>
            <a:ext cx="7015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400" spc="-1" strike="noStrike">
              <a:solidFill>
                <a:srgbClr val="7976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http://tallskinnykiwi.typepad.com/tallskinnykiwi/all%20you%20neede.jpg"/>
          <p:cNvPicPr/>
          <p:nvPr/>
        </p:nvPicPr>
        <p:blipFill>
          <a:blip r:embed="rId1"/>
          <a:stretch/>
        </p:blipFill>
        <p:spPr>
          <a:xfrm>
            <a:off x="1332000" y="1125360"/>
            <a:ext cx="571500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http://www.lifeprint.com/asl101/sign-language/sign-language.gif"/>
          <p:cNvPicPr/>
          <p:nvPr/>
        </p:nvPicPr>
        <p:blipFill>
          <a:blip r:embed="rId1"/>
          <a:stretch/>
        </p:blipFill>
        <p:spPr>
          <a:xfrm>
            <a:off x="3059280" y="549360"/>
            <a:ext cx="41400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http://files.love-is-a-promise.webnode.com/200000162-3cced3dc8c/what-is-love.jpg"/>
          <p:cNvPicPr/>
          <p:nvPr/>
        </p:nvPicPr>
        <p:blipFill>
          <a:blip r:embed="rId1"/>
          <a:stretch/>
        </p:blipFill>
        <p:spPr>
          <a:xfrm>
            <a:off x="1619280" y="333360"/>
            <a:ext cx="57610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2" name="Picture 5" descr="IMG_0620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http://3.bp.blogspot.com/-DNzhE5r_viU/TbxFOLBUnLI/AAAAAAAAEGE/I9Bi3LzEr5Q/s1600/i-do-i-love-you.jpg"/>
          <p:cNvPicPr/>
          <p:nvPr/>
        </p:nvPicPr>
        <p:blipFill>
          <a:blip r:embed="rId1"/>
          <a:stretch/>
        </p:blipFill>
        <p:spPr>
          <a:xfrm>
            <a:off x="2124000" y="1052640"/>
            <a:ext cx="52736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61520" y="4984920"/>
            <a:ext cx="7015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400" spc="-1" strike="noStrike">
              <a:solidFill>
                <a:srgbClr val="79766f"/>
              </a:solidFill>
              <a:latin typeface="Arial"/>
            </a:endParaRPr>
          </a:p>
        </p:txBody>
      </p:sp>
      <p:pic>
        <p:nvPicPr>
          <p:cNvPr id="329" name="Picture 2" descr="http://www.mccrystalpharmacy.com/wp-content/uploads/2010/07/mother-baby.jpg"/>
          <p:cNvPicPr/>
          <p:nvPr/>
        </p:nvPicPr>
        <p:blipFill>
          <a:blip r:embed="rId1"/>
          <a:stretch/>
        </p:blipFill>
        <p:spPr>
          <a:xfrm>
            <a:off x="1763640" y="1268280"/>
            <a:ext cx="4810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http://farm3.static.flickr.com/2208/2104444590_3ca743c67b.jpg"/>
          <p:cNvPicPr/>
          <p:nvPr/>
        </p:nvPicPr>
        <p:blipFill>
          <a:blip r:embed="rId1"/>
          <a:stretch/>
        </p:blipFill>
        <p:spPr>
          <a:xfrm>
            <a:off x="2195640" y="1484280"/>
            <a:ext cx="4762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http://www.motherchronicle.com/images/girldog.jpg"/>
          <p:cNvPicPr/>
          <p:nvPr/>
        </p:nvPicPr>
        <p:blipFill>
          <a:blip r:embed="rId1"/>
          <a:stretch/>
        </p:blipFill>
        <p:spPr>
          <a:xfrm>
            <a:off x="2627280" y="19162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ttp://redroom.com/files/images/Children%20playing.jpg"/>
          <p:cNvPicPr/>
          <p:nvPr/>
        </p:nvPicPr>
        <p:blipFill>
          <a:blip r:embed="rId1"/>
          <a:stretch/>
        </p:blipFill>
        <p:spPr>
          <a:xfrm>
            <a:off x="2411280" y="14130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fc00.deviantart.net/fs70/i/2010/052/6/e/Different_Types_Of_Love_by_JackHarknessHarter.jpg"/>
          <p:cNvPicPr/>
          <p:nvPr/>
        </p:nvPicPr>
        <p:blipFill>
          <a:blip r:embed="rId1"/>
          <a:stretch/>
        </p:blipFill>
        <p:spPr>
          <a:xfrm>
            <a:off x="826920" y="476280"/>
            <a:ext cx="75996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http://cdn.graphicsfactory.com/clip-art/image_files/image/5/1325265-kid-53108-300.gif"/>
          <p:cNvPicPr/>
          <p:nvPr/>
        </p:nvPicPr>
        <p:blipFill>
          <a:blip r:embed="rId1"/>
          <a:stretch/>
        </p:blipFill>
        <p:spPr>
          <a:xfrm>
            <a:off x="3203640" y="15573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://lilliesloves.files.wordpress.com/2010/03/i_love_you_mug_image-713593.jpg"/>
          <p:cNvPicPr/>
          <p:nvPr/>
        </p:nvPicPr>
        <p:blipFill>
          <a:blip r:embed="rId1"/>
          <a:stretch/>
        </p:blipFill>
        <p:spPr>
          <a:xfrm>
            <a:off x="1835280" y="1052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www.socialworkersspeak.org/wp-content/uploads/2010/06/gay-adoption.jpg"/>
          <p:cNvPicPr/>
          <p:nvPr/>
        </p:nvPicPr>
        <p:blipFill>
          <a:blip r:embed="rId1"/>
          <a:stretch/>
        </p:blipFill>
        <p:spPr>
          <a:xfrm>
            <a:off x="1979640" y="1413000"/>
            <a:ext cx="4048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22:45:59Z</dcterms:created>
  <dc:creator>Owner</dc:creator>
  <dc:description/>
  <dc:language>en-US</dc:language>
  <cp:lastModifiedBy>Fionnuala Ward</cp:lastModifiedBy>
  <dcterms:modified xsi:type="dcterms:W3CDTF">2012-11-28T12:53:30Z</dcterms:modified>
  <cp:revision>8</cp:revision>
  <dc:subject/>
  <dc:title>Slide 1</dc:title>
</cp:coreProperties>
</file>