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F4BDB-BEDE-4C15-B22A-33A4BE828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3953A-A1FF-4B1C-9783-87C172805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74AE6-8EA9-4174-8466-B1A65D7C8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8904-0960-43D4-8EFC-9FA5B560E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CDA5-9412-495E-A922-C33033646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D3BE-4DD1-4641-ABC4-82F2980F1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DC6E-99AF-4F54-94D9-1625DCEB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F674-51BC-40EC-B04F-8F21B410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DBF6-10CE-4291-91C1-9A5D90616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3C59-2D1E-4833-B893-4840009A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41EF-C890-4910-8AEB-11BFCAE1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FE3F-E5BD-47A4-809A-812C17025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6EE-2EE5-4B8E-8D98-71655672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4761-448A-4D8C-9BAA-154A8583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FA7-B5DF-4013-AA20-8BBF773D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B41-614C-431D-8959-23E2D65D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485-0FCF-4550-8A28-CBBE8E14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38E-1855-4975-99B9-F36C6662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BB3C-0A2F-4D0D-96CF-DCEA8940B4F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22E9-2BB1-4EA6-9760-D80342647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1557000"/>
            <a:ext cx="417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333399"/>
                </a:solidFill>
                <a:latin typeface="Arial"/>
              </a:rPr>
              <a:t>Ge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3200" spc="-1" strike="noStrike">
                <a:solidFill>
                  <a:srgbClr val="99cc00"/>
                </a:solidFill>
                <a:latin typeface="Arial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9999"/>
                </a:solidFill>
                <a:latin typeface="Arial"/>
              </a:rPr>
              <a:t>How has the cho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1" descr="3-boys-3girls-school-children-smile-pictures"/>
          <p:cNvPicPr/>
          <p:nvPr/>
        </p:nvPicPr>
        <p:blipFill>
          <a:blip r:embed="rId1"/>
          <a:stretch/>
        </p:blipFill>
        <p:spPr>
          <a:xfrm>
            <a:off x="4821120" y="1557360"/>
            <a:ext cx="3461040" cy="4325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76176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1403280" y="333360"/>
            <a:ext cx="106704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200" spc="-1" strike="noStrike">
                <a:solidFill>
                  <a:srgbClr val="99cc00"/>
                </a:solidFill>
                <a:latin typeface="Arial"/>
              </a:rPr>
              <a:t>In this lesson we are going to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Experience fair and unfair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Discuss how that makes us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333399"/>
                </a:solidFill>
                <a:latin typeface="Arial"/>
              </a:rPr>
              <a:t>Explore some reasons why some girls and boys don’t have the same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Ch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rcRect l="18122" t="0" r="18122" b="0"/>
          <a:stretch/>
        </p:blipFill>
        <p:spPr>
          <a:xfrm>
            <a:off x="457200" y="1536840"/>
            <a:ext cx="3657600" cy="4589280"/>
          </a:xfrm>
          <a:prstGeom prst="rect">
            <a:avLst/>
          </a:prstGeom>
          <a:ln w="0">
            <a:noFill/>
          </a:ln>
        </p:spPr>
      </p:pic>
      <p:pic>
        <p:nvPicPr>
          <p:cNvPr id="56" name="Content Placeholder 2" descr="fruits.jpg"/>
          <p:cNvPicPr/>
          <p:nvPr/>
        </p:nvPicPr>
        <p:blipFill>
          <a:blip r:embed="rId2"/>
          <a:srcRect l="18126" t="0" r="18126" b="0"/>
          <a:stretch/>
        </p:blipFill>
        <p:spPr>
          <a:xfrm>
            <a:off x="4419720" y="1536840"/>
            <a:ext cx="36576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Ch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1"/>
          <a:srcRect l="23888" t="0" r="23888" b="0"/>
          <a:stretch/>
        </p:blipFill>
        <p:spPr>
          <a:xfrm>
            <a:off x="4419720" y="1536840"/>
            <a:ext cx="3657600" cy="4589280"/>
          </a:xfrm>
          <a:prstGeom prst="rect">
            <a:avLst/>
          </a:prstGeom>
          <a:ln w="0">
            <a:noFill/>
          </a:ln>
        </p:spPr>
      </p:pic>
      <p:pic>
        <p:nvPicPr>
          <p:cNvPr id="59" name="Content Placeholder 4" descr="playing soccer.jpg"/>
          <p:cNvPicPr/>
          <p:nvPr/>
        </p:nvPicPr>
        <p:blipFill>
          <a:blip r:embed="rId2"/>
          <a:srcRect l="20114" t="0" r="20114" b="0"/>
          <a:stretch/>
        </p:blipFill>
        <p:spPr>
          <a:xfrm>
            <a:off x="457200" y="1536840"/>
            <a:ext cx="36576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Ch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1" descr="Laptop.jpg"/>
          <p:cNvPicPr/>
          <p:nvPr/>
        </p:nvPicPr>
        <p:blipFill>
          <a:blip r:embed="rId1"/>
          <a:srcRect l="0" t="-12730" r="0" b="-12730"/>
          <a:stretch/>
        </p:blipFill>
        <p:spPr>
          <a:xfrm>
            <a:off x="457200" y="1536840"/>
            <a:ext cx="3657600" cy="4589280"/>
          </a:xfrm>
          <a:prstGeom prst="rect">
            <a:avLst/>
          </a:prstGeom>
          <a:ln w="0">
            <a:noFill/>
          </a:ln>
        </p:spPr>
      </p:pic>
      <p:pic>
        <p:nvPicPr>
          <p:cNvPr id="62" name="Content Placeholder 2" descr="smartphone.jpg"/>
          <p:cNvPicPr/>
          <p:nvPr/>
        </p:nvPicPr>
        <p:blipFill>
          <a:blip r:embed="rId2"/>
          <a:srcRect l="0" t="-12971" r="0" b="-12971"/>
          <a:stretch/>
        </p:blipFill>
        <p:spPr>
          <a:xfrm>
            <a:off x="4419720" y="1536840"/>
            <a:ext cx="36576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Ch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2" descr="kitten.jpg"/>
          <p:cNvPicPr/>
          <p:nvPr/>
        </p:nvPicPr>
        <p:blipFill>
          <a:blip r:embed="rId1"/>
          <a:srcRect l="7561" t="0" r="7561" b="0"/>
          <a:stretch/>
        </p:blipFill>
        <p:spPr>
          <a:xfrm>
            <a:off x="457200" y="1536840"/>
            <a:ext cx="3657600" cy="4589280"/>
          </a:xfrm>
          <a:prstGeom prst="rect">
            <a:avLst/>
          </a:prstGeom>
          <a:ln w="0">
            <a:noFill/>
          </a:ln>
        </p:spPr>
      </p:pic>
      <p:pic>
        <p:nvPicPr>
          <p:cNvPr id="65" name="Content Placeholder 4" descr="puppy.jpg"/>
          <p:cNvPicPr/>
          <p:nvPr/>
        </p:nvPicPr>
        <p:blipFill>
          <a:blip r:embed="rId2"/>
          <a:srcRect l="4838" t="0" r="4838" b="0"/>
          <a:stretch/>
        </p:blipFill>
        <p:spPr>
          <a:xfrm>
            <a:off x="4419720" y="1536840"/>
            <a:ext cx="36576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Final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ontent Placeholder 2" descr="vacuuming.jpg"/>
          <p:cNvPicPr/>
          <p:nvPr/>
        </p:nvPicPr>
        <p:blipFill>
          <a:blip r:embed="rId1"/>
          <a:srcRect l="0" t="7283" r="0" b="7283"/>
          <a:stretch/>
        </p:blipFill>
        <p:spPr>
          <a:xfrm>
            <a:off x="4419720" y="1536840"/>
            <a:ext cx="3657600" cy="458928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6" descr="faire-devoir.jpg"/>
          <p:cNvPicPr/>
          <p:nvPr/>
        </p:nvPicPr>
        <p:blipFill>
          <a:blip r:embed="rId2"/>
          <a:srcRect l="23340" t="0" r="23340" b="0"/>
          <a:stretch/>
        </p:blipFill>
        <p:spPr>
          <a:xfrm>
            <a:off x="457200" y="1536840"/>
            <a:ext cx="36576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9440" y="404640"/>
            <a:ext cx="82170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99cc00"/>
                </a:solidFill>
                <a:latin typeface="Arial"/>
              </a:rPr>
              <a:t>What did we lear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13" descr="CPPR-2009-ZWE-1E13-1.jpg"/>
          <p:cNvPicPr/>
          <p:nvPr/>
        </p:nvPicPr>
        <p:blipFill>
          <a:blip r:embed="rId1"/>
          <a:srcRect l="0" t="-33661" r="0" b="-33661"/>
          <a:stretch/>
        </p:blipFill>
        <p:spPr>
          <a:xfrm>
            <a:off x="358920" y="1413000"/>
            <a:ext cx="3755880" cy="4713120"/>
          </a:xfrm>
          <a:prstGeom prst="rect">
            <a:avLst/>
          </a:prstGeom>
          <a:ln w="0">
            <a:noFill/>
          </a:ln>
        </p:spPr>
      </p:pic>
      <p:pic>
        <p:nvPicPr>
          <p:cNvPr id="71" name="Content Placeholder 14" descr="201003-BGD-18.jpg"/>
          <p:cNvPicPr/>
          <p:nvPr/>
        </p:nvPicPr>
        <p:blipFill>
          <a:blip r:embed="rId2"/>
          <a:srcRect l="0" t="-33662" r="0" b="-33662"/>
          <a:stretch/>
        </p:blipFill>
        <p:spPr>
          <a:xfrm>
            <a:off x="4321080" y="1413000"/>
            <a:ext cx="3756240" cy="47131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6"/>
          <p:cNvSpPr/>
          <p:nvPr/>
        </p:nvSpPr>
        <p:spPr>
          <a:xfrm>
            <a:off x="468360" y="2997360"/>
            <a:ext cx="6389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lth worker immunising a girl in Bulawayo, Zimbabw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Plan International (2008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8"/>
          <p:cNvSpPr/>
          <p:nvPr/>
        </p:nvSpPr>
        <p:spPr>
          <a:xfrm>
            <a:off x="4427640" y="3141720"/>
            <a:ext cx="36734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boy selling food in the streets of Dhaka, Bangladesh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Plan International (201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333399"/>
                </a:solidFill>
                <a:latin typeface="Arial"/>
              </a:rPr>
              <a:t>Extension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68360" y="1483920"/>
            <a:ext cx="760896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class examines how girls and boys in Ireland are expected to make choices based on their gender and debate the issue or mount a campaign in school to support gender equ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Arial"/>
              </a:rPr>
              <a:t>Information and activities on the Millennium Development Goal 2 – To achieve universal primary education http://www.oxfam.org.uk/education/resources/change_the_world_in_eight_steps/files/MDG%20Goal%202%20Poster.pdf  (Poster) http://www.oxfam.org.uk/education/resources/change_the_world_in_eight_steps/files/goal_2.pdf (Lesson pla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000000"/>
                </a:solidFill>
                <a:latin typeface="Arial"/>
              </a:rPr>
              <a:t>Christian Aid Lesson </a:t>
            </a:r>
            <a:r>
              <a:rPr b="1" lang="en-IE" sz="2100" spc="-1" strike="noStrike">
                <a:solidFill>
                  <a:srgbClr val="000000"/>
                </a:solidFill>
                <a:latin typeface="Arial"/>
              </a:rPr>
              <a:t>–“</a:t>
            </a:r>
            <a:r>
              <a:rPr b="0" lang="en-I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 School Today</a:t>
            </a:r>
            <a:r>
              <a:rPr b="0" lang="en-IE" sz="21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I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learn.christianaid.org.uk/TeachersResources/primary/primary-assembly-april-2011-education-gender.aspx</a:t>
            </a:r>
            <a:r>
              <a:rPr b="1" lang="en-IE" sz="2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4T10:14:50Z</dcterms:created>
  <dc:creator> </dc:creator>
  <dc:description/>
  <dc:language>en-US</dc:language>
  <cp:lastModifiedBy>Fionnuala Ward</cp:lastModifiedBy>
  <dcterms:modified xsi:type="dcterms:W3CDTF">2012-09-10T15:54:09Z</dcterms:modified>
  <cp:revision>27</cp:revision>
  <dc:subject/>
  <dc:title>Gender Issue – Lesson 5</dc:title>
</cp:coreProperties>
</file>