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55D2-683B-453C-9593-B6998B915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4C08-DC1B-46EC-A169-EF65DFCBD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EAEF-E48E-4557-B86E-5E7DD3FD6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1891-10EC-4A20-A534-CB0ED7245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6C5B-A404-457D-8BCD-1F40EF03E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3228-A3D9-4D88-A1E0-679A562B3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85FF-43CA-4E49-B443-D93F374E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EB99-3FC4-45A5-91BF-5A3880A4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880C-60EF-4146-91FD-BB74AB68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C13-C24E-43E8-8858-1FE01776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C1BD-A333-417E-AD0B-6DB5BFAF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9406-7C7F-48A5-B1A0-FC462BF9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815-3FC0-4303-8676-48BDEF3F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18C-7CA7-45B0-BC01-65300253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E99-42E5-4942-88B4-4A5768EF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CFC-B91E-4B29-9FDD-18E51E46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BD5-52C1-4C26-9A1C-ABA3BB57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E825-7957-40E1-8341-1191BC92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D537-134E-43C4-811D-D5143AFD5B1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9655-AC55-40DC-A82F-5AFA15940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417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333399"/>
                </a:solidFill>
                <a:latin typeface="Arial"/>
              </a:rPr>
              <a:t>Ge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3200" spc="-1" strike="noStrike">
                <a:solidFill>
                  <a:srgbClr val="99cc00"/>
                </a:solidFill>
                <a:latin typeface="Arial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9999"/>
                </a:solidFill>
                <a:latin typeface="Arial"/>
              </a:rPr>
              <a:t>How has the cho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3-boys-3girls-school-children-smile-pictures"/>
          <p:cNvPicPr/>
          <p:nvPr/>
        </p:nvPicPr>
        <p:blipFill>
          <a:blip r:embed="rId1"/>
          <a:stretch/>
        </p:blipFill>
        <p:spPr>
          <a:xfrm>
            <a:off x="4821120" y="1557360"/>
            <a:ext cx="3461040" cy="4325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76176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1403280" y="333360"/>
            <a:ext cx="10670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99cc00"/>
                </a:solidFill>
                <a:latin typeface="Arial"/>
              </a:rPr>
              <a:t>In this lesson we are going to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Experience fair and unfair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Discuss how that makes us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Explore some reasons why some girls and boys don’t have the same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Ch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rcRect l="18122" t="0" r="18122" b="0"/>
          <a:stretch/>
        </p:blipFill>
        <p:spPr>
          <a:xfrm>
            <a:off x="457200" y="1536840"/>
            <a:ext cx="3657600" cy="45892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fruits.jpg"/>
          <p:cNvPicPr/>
          <p:nvPr/>
        </p:nvPicPr>
        <p:blipFill>
          <a:blip r:embed="rId2"/>
          <a:srcRect l="18126" t="0" r="18126" b="0"/>
          <a:stretch/>
        </p:blipFill>
        <p:spPr>
          <a:xfrm>
            <a:off x="4419720" y="1536840"/>
            <a:ext cx="36576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Ch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1"/>
          <a:srcRect l="23888" t="0" r="23888" b="0"/>
          <a:stretch/>
        </p:blipFill>
        <p:spPr>
          <a:xfrm>
            <a:off x="4419720" y="1536840"/>
            <a:ext cx="3657600" cy="45892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4" descr="playing soccer.jpg"/>
          <p:cNvPicPr/>
          <p:nvPr/>
        </p:nvPicPr>
        <p:blipFill>
          <a:blip r:embed="rId2"/>
          <a:srcRect l="20114" t="0" r="20114" b="0"/>
          <a:stretch/>
        </p:blipFill>
        <p:spPr>
          <a:xfrm>
            <a:off x="457200" y="1536840"/>
            <a:ext cx="36576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Ch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1" descr="Laptop.jpg"/>
          <p:cNvPicPr/>
          <p:nvPr/>
        </p:nvPicPr>
        <p:blipFill>
          <a:blip r:embed="rId1"/>
          <a:srcRect l="0" t="-12730" r="0" b="-12730"/>
          <a:stretch/>
        </p:blipFill>
        <p:spPr>
          <a:xfrm>
            <a:off x="457200" y="1536840"/>
            <a:ext cx="3657600" cy="458928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smartphone.jpg"/>
          <p:cNvPicPr/>
          <p:nvPr/>
        </p:nvPicPr>
        <p:blipFill>
          <a:blip r:embed="rId2"/>
          <a:srcRect l="0" t="-12971" r="0" b="-12971"/>
          <a:stretch/>
        </p:blipFill>
        <p:spPr>
          <a:xfrm>
            <a:off x="4419720" y="1536840"/>
            <a:ext cx="36576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Ch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2" descr="kitten.jpg"/>
          <p:cNvPicPr/>
          <p:nvPr/>
        </p:nvPicPr>
        <p:blipFill>
          <a:blip r:embed="rId1"/>
          <a:srcRect l="7561" t="0" r="7561" b="0"/>
          <a:stretch/>
        </p:blipFill>
        <p:spPr>
          <a:xfrm>
            <a:off x="457200" y="1536840"/>
            <a:ext cx="3657600" cy="45892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4" descr="puppy.jpg"/>
          <p:cNvPicPr/>
          <p:nvPr/>
        </p:nvPicPr>
        <p:blipFill>
          <a:blip r:embed="rId2"/>
          <a:srcRect l="4838" t="0" r="4838" b="0"/>
          <a:stretch/>
        </p:blipFill>
        <p:spPr>
          <a:xfrm>
            <a:off x="4419720" y="1536840"/>
            <a:ext cx="36576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Final Ch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ontent Placeholder 2" descr="vacuuming.jpg"/>
          <p:cNvPicPr/>
          <p:nvPr/>
        </p:nvPicPr>
        <p:blipFill>
          <a:blip r:embed="rId1"/>
          <a:srcRect l="0" t="7283" r="0" b="7283"/>
          <a:stretch/>
        </p:blipFill>
        <p:spPr>
          <a:xfrm>
            <a:off x="4419720" y="1536840"/>
            <a:ext cx="3657600" cy="458928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6" descr="faire-devoir.jpg"/>
          <p:cNvPicPr/>
          <p:nvPr/>
        </p:nvPicPr>
        <p:blipFill>
          <a:blip r:embed="rId2"/>
          <a:srcRect l="23340" t="0" r="23340" b="0"/>
          <a:stretch/>
        </p:blipFill>
        <p:spPr>
          <a:xfrm>
            <a:off x="457200" y="1536840"/>
            <a:ext cx="36576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9440" y="404640"/>
            <a:ext cx="82170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99cc00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13" descr="CPPR-2009-ZWE-1E13-1.jpg"/>
          <p:cNvPicPr/>
          <p:nvPr/>
        </p:nvPicPr>
        <p:blipFill>
          <a:blip r:embed="rId1"/>
          <a:srcRect l="0" t="-33661" r="0" b="-33661"/>
          <a:stretch/>
        </p:blipFill>
        <p:spPr>
          <a:xfrm>
            <a:off x="358920" y="1413000"/>
            <a:ext cx="3755880" cy="471312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14" descr="201003-BGD-18.jpg"/>
          <p:cNvPicPr/>
          <p:nvPr/>
        </p:nvPicPr>
        <p:blipFill>
          <a:blip r:embed="rId2"/>
          <a:srcRect l="0" t="-33662" r="0" b="-33662"/>
          <a:stretch/>
        </p:blipFill>
        <p:spPr>
          <a:xfrm>
            <a:off x="4321080" y="1413000"/>
            <a:ext cx="3756240" cy="47131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6"/>
          <p:cNvSpPr/>
          <p:nvPr/>
        </p:nvSpPr>
        <p:spPr>
          <a:xfrm>
            <a:off x="468360" y="2997360"/>
            <a:ext cx="638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lth worker immunising a girl in Bulawayo, Zimbabw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Plan International (2008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4427640" y="3141720"/>
            <a:ext cx="36734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boy selling food in the streets of Dhaka, Banglades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Plan International (20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Extension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1483920"/>
            <a:ext cx="7608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class examines how girls and boys in Ireland are expected to make choices based on their gender and debate the issue or mount a campaign in school to support gender equ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Arial"/>
              </a:rPr>
              <a:t>Information and activities on the Millennium Development Goal 2 – To achieve universal primary education http://www.oxfam.org.uk/education/resources/change_the_world_in_eight_steps/files/MDG%20Goal%202%20Poster.pdf  (Poster) http://www.oxfam.org.uk/education/resources/change_the_world_in_eight_steps/files/goal_2.pdf (Lesson pla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Arial"/>
              </a:rPr>
              <a:t>Christian Aid Lesson </a:t>
            </a:r>
            <a:r>
              <a:rPr b="1" lang="en-IE" sz="2100" spc="-1" strike="noStrike">
                <a:solidFill>
                  <a:srgbClr val="000000"/>
                </a:solidFill>
                <a:latin typeface="Arial"/>
              </a:rPr>
              <a:t>–“</a:t>
            </a:r>
            <a:r>
              <a:rPr b="0" lang="en-I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School Today</a:t>
            </a:r>
            <a:r>
              <a:rPr b="0" lang="en-IE" sz="21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I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learn.christianaid.org.uk/TeachersResources/primary/primary-assembly-april-2011-education-gender.aspx</a:t>
            </a:r>
            <a:r>
              <a:rPr b="1" lang="en-I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10:14:50Z</dcterms:created>
  <dc:creator> </dc:creator>
  <dc:description/>
  <dc:language>en-US</dc:language>
  <cp:lastModifiedBy>Fionnuala Ward</cp:lastModifiedBy>
  <dcterms:modified xsi:type="dcterms:W3CDTF">2012-09-10T15:54:09Z</dcterms:modified>
  <cp:revision>27</cp:revision>
  <dc:subject/>
  <dc:title>Gender Issue – Lesson 5</dc:title>
</cp:coreProperties>
</file>